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512-102A-4C91-970B-9F5C13A71D2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0C8-9964-42E7-8D43-76D958C5086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838-4F04-438D-99A3-3A583C1244D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E9C-D636-4F55-91F6-DCC262D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8F-44CA-4DD8-9FEB-9ABD7D5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A6D-EA14-4BCA-AC5D-1EA82A5D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21E-F37A-4C00-A476-918DDA9C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171-96DF-4722-A642-0BD7FEE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8C6-F4BD-428C-8D9E-95D25EE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5FC-D92D-4907-9B42-BD8BBFE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E60-B707-4036-8790-20A931A3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F64-9ADA-40BD-8551-70B7004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BA8-C080-402C-B6AA-0EA3000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91B-24F8-440C-A6DB-DBD4A4F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7D6-9148-43DE-9F85-925FD27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9A5C-265E-4859-8331-5B206EF3249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  <a:ea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CuadroTexto"/>
          <p:cNvSpPr/>
          <p:nvPr/>
        </p:nvSpPr>
        <p:spPr>
          <a:xfrm>
            <a:off x="571680" y="1268280"/>
            <a:ext cx="824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ma 6- Metabolismo de Lípidos. Digestión y absorción de lípidos. Transporte de lípidos: Lipoproteínas, función e importancia metabólica, lípidos que transportan, metabolismo. </a:t>
            </a:r>
            <a:r>
              <a:rPr b="1" lang="es-AR" sz="1800" spc="-1" strike="noStrike">
                <a:solidFill>
                  <a:srgbClr val="200ffd"/>
                </a:solidFill>
                <a:latin typeface="Arial"/>
                <a:ea typeface="Arial"/>
              </a:rPr>
              <a:t>Degradación de triacilglicéridos: lipasas, localización tisular y regulación. Degradación de ácidos grasos: proceso de beta-oxidación, localización celular, rendimiento energético, regulación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  <a:ea typeface="Arial"/>
              </a:rPr>
              <a:t>. Cuerpos cetónicos: síntesis, importancia metabólica.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ma 7- Metabolismo de Lípidos. Biosíntesis de ácidos grasos, precursores, regulación. Metabolismo del Colesterol: precursores de síntesis, regulación, importancia clínica. Degradación de Colesterol: ácidos biliares, función. Ciclo enterohepátic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201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0"/>
          <p:cNvSpPr/>
          <p:nvPr/>
        </p:nvSpPr>
        <p:spPr>
          <a:xfrm>
            <a:off x="468360" y="404640"/>
            <a:ext cx="81360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ESQUEMA GENERAL DE LA DEGRADACION DE ACIDO PALM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-oxidación de ácido palmí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Imagen 5" descr="F17-08a.JPG                                                    00014CF9&#10;ECONOMICS 2.0                  B088F83F:"/>
          <p:cNvPicPr/>
          <p:nvPr/>
        </p:nvPicPr>
        <p:blipFill>
          <a:blip r:embed="rId1"/>
          <a:srcRect l="5444" t="0" r="11746" b="43849"/>
          <a:stretch/>
        </p:blipFill>
        <p:spPr>
          <a:xfrm>
            <a:off x="65160" y="1773360"/>
            <a:ext cx="4002120" cy="475128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5" descr="F17-08a.JPG                                                    00014CF9&#10;ECONOMICS 2.0                  B088F83F:"/>
          <p:cNvPicPr/>
          <p:nvPr/>
        </p:nvPicPr>
        <p:blipFill>
          <a:blip r:embed="rId2"/>
          <a:srcRect l="0" t="56163" r="7389" b="0"/>
          <a:stretch/>
        </p:blipFill>
        <p:spPr>
          <a:xfrm>
            <a:off x="4716360" y="2276640"/>
            <a:ext cx="4224600" cy="349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203640" y="220500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2637000"/>
            <a:ext cx="2195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981080" y="335772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124000" y="2133720"/>
            <a:ext cx="0" cy="1582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2124000" y="2781360"/>
            <a:ext cx="144360" cy="503280"/>
          </a:xfrm>
          <a:custGeom>
            <a:avLst/>
            <a:gdLst>
              <a:gd name="textAreaLeft" fmla="*/ 19080 w 144360"/>
              <a:gd name="textAreaRight" fmla="*/ 125280 w 144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66560" y="4508640"/>
            <a:ext cx="151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n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2050920" y="458136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4572000" y="2133720"/>
            <a:ext cx="2195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-OH 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6877080" y="2349360"/>
            <a:ext cx="144360" cy="503280"/>
          </a:xfrm>
          <a:custGeom>
            <a:avLst/>
            <a:gdLst>
              <a:gd name="textAreaLeft" fmla="*/ 19080 w 144360"/>
              <a:gd name="textAreaRight" fmla="*/ 125280 w 144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148360" y="3789360"/>
            <a:ext cx="16192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ti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6804000" y="371628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6837480" y="220500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2987640" y="4076640"/>
            <a:ext cx="151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en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059280" y="5967360"/>
            <a:ext cx="2087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-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hidroxi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7846920" y="335772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cetoa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5219640" y="5229360"/>
            <a:ext cx="19432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ris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0 CuadroTexto"/>
          <p:cNvSpPr/>
          <p:nvPr/>
        </p:nvSpPr>
        <p:spPr>
          <a:xfrm>
            <a:off x="7154280" y="5786280"/>
            <a:ext cx="17380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40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Elipse"/>
          <p:cNvSpPr/>
          <p:nvPr/>
        </p:nvSpPr>
        <p:spPr>
          <a:xfrm>
            <a:off x="4572000" y="1700280"/>
            <a:ext cx="863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4 Conector recto de flecha"/>
          <p:cNvCxnSpPr/>
          <p:nvPr/>
        </p:nvCxnSpPr>
        <p:spPr>
          <a:xfrm>
            <a:off x="5435280" y="1952280"/>
            <a:ext cx="1152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3" name="5 CuadroTexto"/>
          <p:cNvSpPr/>
          <p:nvPr/>
        </p:nvSpPr>
        <p:spPr>
          <a:xfrm>
            <a:off x="6588000" y="1630440"/>
            <a:ext cx="144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8 Elipse"/>
          <p:cNvSpPr/>
          <p:nvPr/>
        </p:nvSpPr>
        <p:spPr>
          <a:xfrm>
            <a:off x="4651200" y="4508640"/>
            <a:ext cx="863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9 Conector recto de flecha"/>
          <p:cNvCxnSpPr/>
          <p:nvPr/>
        </p:nvCxnSpPr>
        <p:spPr>
          <a:xfrm>
            <a:off x="5514840" y="4760640"/>
            <a:ext cx="1153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6" name="10 CuadroTexto"/>
          <p:cNvSpPr/>
          <p:nvPr/>
        </p:nvSpPr>
        <p:spPr>
          <a:xfrm>
            <a:off x="6667560" y="4367160"/>
            <a:ext cx="143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6 Rectángulo redondeado"/>
          <p:cNvSpPr/>
          <p:nvPr/>
        </p:nvSpPr>
        <p:spPr>
          <a:xfrm>
            <a:off x="4932360" y="5950080"/>
            <a:ext cx="1295280" cy="71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12 Conector recto de flecha"/>
          <p:cNvCxnSpPr>
            <a:stCxn id="247" idx="3"/>
          </p:cNvCxnSpPr>
          <p:nvPr/>
        </p:nvCxnSpPr>
        <p:spPr>
          <a:xfrm>
            <a:off x="6227280" y="6308280"/>
            <a:ext cx="793080" cy="108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49" name="13 CuadroTexto"/>
          <p:cNvSpPr/>
          <p:nvPr/>
        </p:nvSpPr>
        <p:spPr>
          <a:xfrm>
            <a:off x="7051680" y="6022800"/>
            <a:ext cx="1368360" cy="642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Oxidación completa del palmita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11547" t="72727" r="60893" b="10061"/>
          <a:stretch/>
        </p:blipFill>
        <p:spPr>
          <a:xfrm>
            <a:off x="1042920" y="1465200"/>
            <a:ext cx="5977080" cy="5281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4284720" y="227664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284720" y="285264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84720" y="342900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356000" y="4005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356000" y="4581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356000" y="5229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2050920" y="587700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2124000" y="206064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2122560" y="270828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5"/>
          <p:cNvSpPr/>
          <p:nvPr/>
        </p:nvSpPr>
        <p:spPr>
          <a:xfrm>
            <a:off x="2050920" y="328464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6"/>
          <p:cNvSpPr/>
          <p:nvPr/>
        </p:nvSpPr>
        <p:spPr>
          <a:xfrm>
            <a:off x="1979640" y="3860640"/>
            <a:ext cx="72072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7"/>
          <p:cNvSpPr/>
          <p:nvPr/>
        </p:nvSpPr>
        <p:spPr>
          <a:xfrm>
            <a:off x="1979640" y="4437000"/>
            <a:ext cx="72072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1979640" y="501336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9"/>
          <p:cNvSpPr/>
          <p:nvPr/>
        </p:nvSpPr>
        <p:spPr>
          <a:xfrm>
            <a:off x="1258920" y="1989000"/>
            <a:ext cx="79200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c6788"/>
              </a:gs>
              <a:gs pos="100000">
                <a:srgbClr val="87b3e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ndimiento energético de la beta oxi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Para calcular el rendimiento energétic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(Número de átomos de carbono /2)-1 ₌ número de ciclos de beta oxida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En cada ciclo se producen 1NADH, 1 FADH y 1 acetilCoA (en el último se producen 2 acetil Co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 NADH equivale a 3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FADH equivale a 2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 acetil CoA entra al ciclo de Krebs y produce 12 AT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Considerar el gasto de la activación: 1 ATP que se hidroliza a AMP y PPi, se restan 2 AT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50920" y="1547640"/>
            <a:ext cx="8497800" cy="5416200"/>
          </a:xfrm>
          <a:prstGeom prst="rect">
            <a:avLst/>
          </a:prstGeom>
          <a:solidFill>
            <a:srgbClr val="cff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(C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CO-CoA+ 7 FAD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+ 7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+ 7NAD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+ 7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8 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CO-Co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7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(7x2)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4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 NADH   (7x3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2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8Acetil-CoA (8 x 12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otal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31A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y se forma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30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2 A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Total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29A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(Rendimiento energé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BALANCE ENERGETICO DE LA DEGRADACION DE UN AC.GRASO DE 16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780000" y="1917720"/>
            <a:ext cx="0" cy="431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Degradación de ácidos grasos de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número impar de átomos de carbo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284720" y="2349360"/>
            <a:ext cx="4680000" cy="3661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productos finales de degradación de los AG de nº impar de C son: Acetil-CoA y Propi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propionil CoA es gluconeogé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e los carbonos del propionil CoA se sintetiza una molécula de 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este último proceso se requiere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, ATP, biotina y B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3" descr=""/>
          <p:cNvPicPr/>
          <p:nvPr/>
        </p:nvPicPr>
        <p:blipFill>
          <a:blip r:embed="rId1"/>
          <a:stretch/>
        </p:blipFill>
        <p:spPr>
          <a:xfrm>
            <a:off x="324000" y="1247760"/>
            <a:ext cx="38876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275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292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599080" y="38638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6443640" y="472428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35" h="90">
                <a:moveTo>
                  <a:pt x="635" y="0"/>
                </a:moveTo>
                <a:cubicBezTo>
                  <a:pt x="597" y="15"/>
                  <a:pt x="560" y="30"/>
                  <a:pt x="454" y="45"/>
                </a:cubicBezTo>
                <a:cubicBezTo>
                  <a:pt x="348" y="60"/>
                  <a:pt x="76" y="83"/>
                  <a:pt x="0" y="9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6156360" y="537372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99" h="635">
                <a:moveTo>
                  <a:pt x="499" y="635"/>
                </a:moveTo>
                <a:cubicBezTo>
                  <a:pt x="336" y="574"/>
                  <a:pt x="174" y="514"/>
                  <a:pt x="91" y="408"/>
                </a:cubicBezTo>
                <a:cubicBezTo>
                  <a:pt x="8" y="302"/>
                  <a:pt x="15" y="6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4522680" y="4870440"/>
            <a:ext cx="770040" cy="503280"/>
          </a:xfrm>
          <a:custGeom>
            <a:avLst/>
            <a:gdLst>
              <a:gd name="textAreaLeft" fmla="*/ 0 w 770040"/>
              <a:gd name="textAreaRight" fmla="*/ 770400 w 770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485" h="317">
                <a:moveTo>
                  <a:pt x="485" y="45"/>
                </a:moveTo>
                <a:cubicBezTo>
                  <a:pt x="318" y="22"/>
                  <a:pt x="152" y="0"/>
                  <a:pt x="76" y="45"/>
                </a:cubicBezTo>
                <a:cubicBezTo>
                  <a:pt x="0" y="90"/>
                  <a:pt x="38" y="272"/>
                  <a:pt x="31" y="3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ovilización de Triglicéridos desde las reserv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3"/>
          <p:cNvSpPr/>
          <p:nvPr/>
        </p:nvSpPr>
        <p:spPr>
          <a:xfrm>
            <a:off x="2987640" y="3500280"/>
            <a:ext cx="588960" cy="50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371" h="318">
                <a:moveTo>
                  <a:pt x="318" y="0"/>
                </a:moveTo>
                <a:cubicBezTo>
                  <a:pt x="344" y="114"/>
                  <a:pt x="371" y="228"/>
                  <a:pt x="318" y="273"/>
                </a:cubicBezTo>
                <a:cubicBezTo>
                  <a:pt x="265" y="318"/>
                  <a:pt x="53" y="273"/>
                  <a:pt x="0" y="27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 rot="3907200">
            <a:off x="5598720" y="3500640"/>
            <a:ext cx="462240" cy="414360"/>
          </a:xfrm>
          <a:custGeom>
            <a:avLst/>
            <a:gdLst>
              <a:gd name="textAreaLeft" fmla="*/ 0 w 462240"/>
              <a:gd name="textAreaRight" fmla="*/ 462600 w 4622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317" h="318">
                <a:moveTo>
                  <a:pt x="45" y="0"/>
                </a:moveTo>
                <a:cubicBezTo>
                  <a:pt x="22" y="114"/>
                  <a:pt x="0" y="228"/>
                  <a:pt x="45" y="273"/>
                </a:cubicBezTo>
                <a:cubicBezTo>
                  <a:pt x="90" y="318"/>
                  <a:pt x="279" y="273"/>
                  <a:pt x="317" y="27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214200" y="2071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IP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300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1 Rectángulo"/>
          <p:cNvSpPr/>
          <p:nvPr/>
        </p:nvSpPr>
        <p:spPr>
          <a:xfrm>
            <a:off x="642960" y="642960"/>
            <a:ext cx="788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Debido a una excesiva producción de Acetil-CoA e insuficiente Oxalacetato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Son transportados por sangre a tejidos extrahepáticos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CuadroTexto"/>
          <p:cNvSpPr/>
          <p:nvPr/>
        </p:nvSpPr>
        <p:spPr>
          <a:xfrm>
            <a:off x="5072040" y="1214280"/>
            <a:ext cx="4071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Ocurre en 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El hígado es el principal productor de C. Cetónicos pero es incapaz de usarlos 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5 Grupo"/>
          <p:cNvGrpSpPr/>
          <p:nvPr/>
        </p:nvGrpSpPr>
        <p:grpSpPr>
          <a:xfrm>
            <a:off x="0" y="1484280"/>
            <a:ext cx="5827680" cy="3691800"/>
            <a:chOff x="0" y="1484280"/>
            <a:chExt cx="5827680" cy="3691800"/>
          </a:xfrm>
        </p:grpSpPr>
        <p:sp>
          <p:nvSpPr>
            <p:cNvPr id="324" name="4 CuadroTexto"/>
            <p:cNvSpPr/>
            <p:nvPr/>
          </p:nvSpPr>
          <p:spPr>
            <a:xfrm>
              <a:off x="5643720" y="17139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12 Elipse"/>
            <p:cNvSpPr/>
            <p:nvPr/>
          </p:nvSpPr>
          <p:spPr>
            <a:xfrm>
              <a:off x="2500200" y="2928960"/>
              <a:ext cx="5569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13 Elipse"/>
            <p:cNvSpPr/>
            <p:nvPr/>
          </p:nvSpPr>
          <p:spPr>
            <a:xfrm>
              <a:off x="2286000" y="4357800"/>
              <a:ext cx="64296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14 Conector recto de flecha"/>
            <p:cNvCxnSpPr/>
            <p:nvPr/>
          </p:nvCxnSpPr>
          <p:spPr>
            <a:xfrm flipH="1" flipV="1">
              <a:off x="1713600" y="3357000"/>
              <a:ext cx="178668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28" name="18 CuadroTexto"/>
            <p:cNvSpPr/>
            <p:nvPr/>
          </p:nvSpPr>
          <p:spPr>
            <a:xfrm>
              <a:off x="3656520" y="314280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Ausente en híg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1 CuadroTexto"/>
            <p:cNvSpPr/>
            <p:nvPr/>
          </p:nvSpPr>
          <p:spPr>
            <a:xfrm>
              <a:off x="142560" y="2928600"/>
              <a:ext cx="1428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Β</a:t>
              </a: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-cetoacilCoA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CuadroTexto"/>
            <p:cNvSpPr/>
            <p:nvPr/>
          </p:nvSpPr>
          <p:spPr>
            <a:xfrm>
              <a:off x="539280" y="4869000"/>
              <a:ext cx="1032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ti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4 CuadroTexto"/>
            <p:cNvSpPr/>
            <p:nvPr/>
          </p:nvSpPr>
          <p:spPr>
            <a:xfrm>
              <a:off x="0" y="1484280"/>
              <a:ext cx="1571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deshidroge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333" name="4 CuadroTexto"/>
          <p:cNvSpPr/>
          <p:nvPr/>
        </p:nvSpPr>
        <p:spPr>
          <a:xfrm>
            <a:off x="4792680" y="0"/>
            <a:ext cx="43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348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  <a:ea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351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  <a:ea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52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00000"/>
                </a:solidFill>
                <a:latin typeface="Calibri"/>
              </a:rPr>
              <a:t>Movilización de Triglicéridos desde las rese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8 Grupo"/>
          <p:cNvGrpSpPr/>
          <p:nvPr/>
        </p:nvGrpSpPr>
        <p:grpSpPr>
          <a:xfrm>
            <a:off x="339840" y="1292400"/>
            <a:ext cx="8480160" cy="4421160"/>
            <a:chOff x="339840" y="1292400"/>
            <a:chExt cx="8480160" cy="4421160"/>
          </a:xfrm>
        </p:grpSpPr>
        <p:pic>
          <p:nvPicPr>
            <p:cNvPr id="79" name="Picture 2" descr=""/>
            <p:cNvPicPr/>
            <p:nvPr/>
          </p:nvPicPr>
          <p:blipFill>
            <a:blip r:embed="rId1"/>
            <a:stretch/>
          </p:blipFill>
          <p:spPr>
            <a:xfrm>
              <a:off x="339840" y="1292400"/>
              <a:ext cx="812016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2 Elipse"/>
            <p:cNvSpPr/>
            <p:nvPr/>
          </p:nvSpPr>
          <p:spPr>
            <a:xfrm>
              <a:off x="1187280" y="2853000"/>
              <a:ext cx="1368360" cy="7189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3 CuadroTexto"/>
            <p:cNvSpPr/>
            <p:nvPr/>
          </p:nvSpPr>
          <p:spPr>
            <a:xfrm>
              <a:off x="7740000" y="3212640"/>
              <a:ext cx="5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 CuadroTexto"/>
            <p:cNvSpPr/>
            <p:nvPr/>
          </p:nvSpPr>
          <p:spPr>
            <a:xfrm>
              <a:off x="7380000" y="3572640"/>
              <a:ext cx="14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neogén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5 Flecha derecha"/>
            <p:cNvSpPr/>
            <p:nvPr/>
          </p:nvSpPr>
          <p:spPr>
            <a:xfrm>
              <a:off x="7596360" y="3281400"/>
              <a:ext cx="215640" cy="6984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6 Flecha abajo"/>
            <p:cNvSpPr/>
            <p:nvPr/>
          </p:nvSpPr>
          <p:spPr>
            <a:xfrm>
              <a:off x="7453440" y="3351240"/>
              <a:ext cx="71280" cy="30780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sucede cuando los niveles de glucosa en sangre son bajo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38 Grupo"/>
          <p:cNvGrpSpPr/>
          <p:nvPr/>
        </p:nvGrpSpPr>
        <p:grpSpPr>
          <a:xfrm>
            <a:off x="324000" y="1267920"/>
            <a:ext cx="8424720" cy="5481360"/>
            <a:chOff x="324000" y="1267920"/>
            <a:chExt cx="8424720" cy="5481360"/>
          </a:xfrm>
        </p:grpSpPr>
        <p:sp>
          <p:nvSpPr>
            <p:cNvPr id="87" name="2 CuadroTexto"/>
            <p:cNvSpPr/>
            <p:nvPr/>
          </p:nvSpPr>
          <p:spPr>
            <a:xfrm>
              <a:off x="540000" y="126828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 CuadroTexto"/>
            <p:cNvSpPr/>
            <p:nvPr/>
          </p:nvSpPr>
          <p:spPr>
            <a:xfrm>
              <a:off x="2700000" y="1268280"/>
              <a:ext cx="23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libera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ag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4 CuadroTexto"/>
            <p:cNvSpPr/>
            <p:nvPr/>
          </p:nvSpPr>
          <p:spPr>
            <a:xfrm>
              <a:off x="1073160" y="2122920"/>
              <a:ext cx="54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une a su receptor de membrana en el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ipo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5 CuadroTexto"/>
            <p:cNvSpPr/>
            <p:nvPr/>
          </p:nvSpPr>
          <p:spPr>
            <a:xfrm>
              <a:off x="1188000" y="307008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ación de quinasas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6 CuadroTexto"/>
            <p:cNvSpPr/>
            <p:nvPr/>
          </p:nvSpPr>
          <p:spPr>
            <a:xfrm>
              <a:off x="324000" y="404568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in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7 CuadroTexto"/>
            <p:cNvSpPr/>
            <p:nvPr/>
          </p:nvSpPr>
          <p:spPr>
            <a:xfrm>
              <a:off x="3924360" y="4036320"/>
              <a:ext cx="18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activa </a:t>
              </a:r>
              <a:r>
                <a:rPr b="0" lang="es-A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 Flecha derecha"/>
            <p:cNvSpPr/>
            <p:nvPr/>
          </p:nvSpPr>
          <p:spPr>
            <a:xfrm>
              <a:off x="1836720" y="1452240"/>
              <a:ext cx="682560" cy="185400"/>
            </a:xfrm>
            <a:prstGeom prst="rightArrow">
              <a:avLst>
                <a:gd name="adj1" fmla="val 50000"/>
                <a:gd name="adj2" fmla="val 500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10 Conector recto de flecha"/>
            <p:cNvCxnSpPr/>
            <p:nvPr/>
          </p:nvCxnSpPr>
          <p:spPr>
            <a:xfrm>
              <a:off x="468000" y="1267920"/>
              <a:ext cx="1080" cy="3704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5" name="15 Flecha abajo"/>
            <p:cNvSpPr/>
            <p:nvPr/>
          </p:nvSpPr>
          <p:spPr>
            <a:xfrm>
              <a:off x="3132000" y="1638000"/>
              <a:ext cx="144360" cy="484200"/>
            </a:xfrm>
            <a:prstGeom prst="downArrow">
              <a:avLst>
                <a:gd name="adj1" fmla="val 50000"/>
                <a:gd name="adj2" fmla="val 5003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6 Flecha abajo"/>
            <p:cNvSpPr/>
            <p:nvPr/>
          </p:nvSpPr>
          <p:spPr>
            <a:xfrm>
              <a:off x="3060720" y="2582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7 Flecha derecha"/>
            <p:cNvSpPr/>
            <p:nvPr/>
          </p:nvSpPr>
          <p:spPr>
            <a:xfrm>
              <a:off x="2481120" y="4230720"/>
              <a:ext cx="1295280" cy="17460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8 Flecha abajo"/>
            <p:cNvSpPr/>
            <p:nvPr/>
          </p:nvSpPr>
          <p:spPr>
            <a:xfrm>
              <a:off x="3060720" y="3644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19 CuadroTexto"/>
            <p:cNvSpPr/>
            <p:nvPr/>
          </p:nvSpPr>
          <p:spPr>
            <a:xfrm>
              <a:off x="6228720" y="3491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20 CuadroTexto"/>
            <p:cNvSpPr/>
            <p:nvPr/>
          </p:nvSpPr>
          <p:spPr>
            <a:xfrm>
              <a:off x="6228720" y="465264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cidos graso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21 CuadroTexto"/>
            <p:cNvSpPr/>
            <p:nvPr/>
          </p:nvSpPr>
          <p:spPr>
            <a:xfrm>
              <a:off x="6444720" y="53006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ic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22 Flecha abajo"/>
            <p:cNvSpPr/>
            <p:nvPr/>
          </p:nvSpPr>
          <p:spPr>
            <a:xfrm>
              <a:off x="6804000" y="3887640"/>
              <a:ext cx="252360" cy="804600"/>
            </a:xfrm>
            <a:prstGeom prst="downArrow">
              <a:avLst>
                <a:gd name="adj1" fmla="val 50000"/>
                <a:gd name="adj2" fmla="val 4999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23 Flecha derecha"/>
            <p:cNvSpPr/>
            <p:nvPr/>
          </p:nvSpPr>
          <p:spPr>
            <a:xfrm>
              <a:off x="5796000" y="4130640"/>
              <a:ext cx="649080" cy="187200"/>
            </a:xfrm>
            <a:prstGeom prst="rightArrow">
              <a:avLst>
                <a:gd name="adj1" fmla="val 50000"/>
                <a:gd name="adj2" fmla="val 500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25 Conector recto de flecha"/>
            <p:cNvCxnSpPr/>
            <p:nvPr/>
          </p:nvCxnSpPr>
          <p:spPr>
            <a:xfrm flipH="1">
              <a:off x="4644360" y="5084280"/>
              <a:ext cx="172764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5" name="26 CuadroTexto"/>
            <p:cNvSpPr/>
            <p:nvPr/>
          </p:nvSpPr>
          <p:spPr>
            <a:xfrm>
              <a:off x="2052000" y="5285160"/>
              <a:ext cx="20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ta oxidación en hígado y 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27 CuadroTexto"/>
            <p:cNvSpPr/>
            <p:nvPr/>
          </p:nvSpPr>
          <p:spPr>
            <a:xfrm>
              <a:off x="5508360" y="588528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ígado: 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28 CuadroTexto"/>
            <p:cNvSpPr/>
            <p:nvPr/>
          </p:nvSpPr>
          <p:spPr>
            <a:xfrm>
              <a:off x="6516720" y="638100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30 Conector recto de flecha"/>
            <p:cNvCxnSpPr/>
            <p:nvPr/>
          </p:nvCxnSpPr>
          <p:spPr>
            <a:xfrm>
              <a:off x="6940440" y="570024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9" name="31 Conector recto de flecha"/>
            <p:cNvCxnSpPr/>
            <p:nvPr/>
          </p:nvCxnSpPr>
          <p:spPr>
            <a:xfrm>
              <a:off x="6870600" y="627336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10" name="32 Conector recto de flecha"/>
            <p:cNvCxnSpPr/>
            <p:nvPr/>
          </p:nvCxnSpPr>
          <p:spPr>
            <a:xfrm flipV="1">
              <a:off x="6445080" y="6379560"/>
              <a:ext cx="1080" cy="361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11" name="37 CuadroTexto"/>
            <p:cNvSpPr/>
            <p:nvPr/>
          </p:nvSpPr>
          <p:spPr>
            <a:xfrm>
              <a:off x="6732720" y="494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sucede cuando los niveles de glucosa en sangre aumentan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4 Multiplicar"/>
          <p:cNvSpPr/>
          <p:nvPr/>
        </p:nvSpPr>
        <p:spPr>
          <a:xfrm>
            <a:off x="6518160" y="6202440"/>
            <a:ext cx="576360" cy="655560"/>
          </a:xfrm>
          <a:custGeom>
            <a:avLst/>
            <a:gdLst/>
            <a:ahLst/>
            <a:rect l="l" t="t" r="r" b="b"/>
            <a:pathLst>
              <a:path w="576263" h="655637">
                <a:moveTo>
                  <a:pt x="87502" y="202207"/>
                </a:moveTo>
                <a:lnTo>
                  <a:pt x="189306" y="112728"/>
                </a:lnTo>
                <a:lnTo>
                  <a:pt x="288132" y="225167"/>
                </a:lnTo>
                <a:lnTo>
                  <a:pt x="386957" y="112728"/>
                </a:lnTo>
                <a:lnTo>
                  <a:pt x="488761" y="202207"/>
                </a:lnTo>
                <a:lnTo>
                  <a:pt x="378356" y="327819"/>
                </a:lnTo>
                <a:lnTo>
                  <a:pt x="488761" y="453430"/>
                </a:lnTo>
                <a:lnTo>
                  <a:pt x="386957" y="542909"/>
                </a:lnTo>
                <a:lnTo>
                  <a:pt x="288132" y="430470"/>
                </a:lnTo>
                <a:lnTo>
                  <a:pt x="189306" y="542909"/>
                </a:lnTo>
                <a:lnTo>
                  <a:pt x="87502" y="453430"/>
                </a:lnTo>
                <a:lnTo>
                  <a:pt x="197907" y="327819"/>
                </a:lnTo>
                <a:lnTo>
                  <a:pt x="87502" y="20220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14 Grupo"/>
          <p:cNvGrpSpPr/>
          <p:nvPr/>
        </p:nvGrpSpPr>
        <p:grpSpPr>
          <a:xfrm>
            <a:off x="324000" y="1267920"/>
            <a:ext cx="8424720" cy="5481360"/>
            <a:chOff x="324000" y="1267920"/>
            <a:chExt cx="8424720" cy="5481360"/>
          </a:xfrm>
        </p:grpSpPr>
        <p:sp>
          <p:nvSpPr>
            <p:cNvPr id="115" name="2 CuadroTexto"/>
            <p:cNvSpPr/>
            <p:nvPr/>
          </p:nvSpPr>
          <p:spPr>
            <a:xfrm>
              <a:off x="540000" y="126828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3 CuadroTexto"/>
            <p:cNvSpPr/>
            <p:nvPr/>
          </p:nvSpPr>
          <p:spPr>
            <a:xfrm>
              <a:off x="2700000" y="1268280"/>
              <a:ext cx="23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libera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4 CuadroTexto"/>
            <p:cNvSpPr/>
            <p:nvPr/>
          </p:nvSpPr>
          <p:spPr>
            <a:xfrm>
              <a:off x="1066680" y="2122920"/>
              <a:ext cx="38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une a su receptor en el adipo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5 CuadroTexto"/>
            <p:cNvSpPr/>
            <p:nvPr/>
          </p:nvSpPr>
          <p:spPr>
            <a:xfrm>
              <a:off x="1188000" y="307008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ación de fosfat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6 CuadroTexto"/>
            <p:cNvSpPr/>
            <p:nvPr/>
          </p:nvSpPr>
          <p:spPr>
            <a:xfrm>
              <a:off x="324000" y="404568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in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7 CuadroTexto"/>
            <p:cNvSpPr/>
            <p:nvPr/>
          </p:nvSpPr>
          <p:spPr>
            <a:xfrm>
              <a:off x="3924360" y="4036320"/>
              <a:ext cx="18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activa </a:t>
              </a:r>
              <a:r>
                <a:rPr b="0" lang="es-A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Flecha derecha"/>
            <p:cNvSpPr/>
            <p:nvPr/>
          </p:nvSpPr>
          <p:spPr>
            <a:xfrm>
              <a:off x="1836720" y="1452240"/>
              <a:ext cx="682560" cy="185400"/>
            </a:xfrm>
            <a:prstGeom prst="rightArrow">
              <a:avLst>
                <a:gd name="adj1" fmla="val 50000"/>
                <a:gd name="adj2" fmla="val 500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10 Conector recto de flecha"/>
            <p:cNvCxnSpPr/>
            <p:nvPr/>
          </p:nvCxnSpPr>
          <p:spPr>
            <a:xfrm flipV="1">
              <a:off x="468000" y="1267920"/>
              <a:ext cx="1080" cy="288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23" name="15 Flecha abajo"/>
            <p:cNvSpPr/>
            <p:nvPr/>
          </p:nvSpPr>
          <p:spPr>
            <a:xfrm>
              <a:off x="3132000" y="1638000"/>
              <a:ext cx="144360" cy="484200"/>
            </a:xfrm>
            <a:prstGeom prst="downArrow">
              <a:avLst>
                <a:gd name="adj1" fmla="val 50000"/>
                <a:gd name="adj2" fmla="val 5003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6 Flecha abajo"/>
            <p:cNvSpPr/>
            <p:nvPr/>
          </p:nvSpPr>
          <p:spPr>
            <a:xfrm>
              <a:off x="3060720" y="2582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7 Flecha derecha"/>
            <p:cNvSpPr/>
            <p:nvPr/>
          </p:nvSpPr>
          <p:spPr>
            <a:xfrm rot="10800000">
              <a:off x="2481120" y="4230360"/>
              <a:ext cx="1295280" cy="17460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8 Flecha abajo"/>
            <p:cNvSpPr/>
            <p:nvPr/>
          </p:nvSpPr>
          <p:spPr>
            <a:xfrm>
              <a:off x="3060720" y="3644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9 CuadroTexto"/>
            <p:cNvSpPr/>
            <p:nvPr/>
          </p:nvSpPr>
          <p:spPr>
            <a:xfrm>
              <a:off x="6228720" y="3491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ér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0 CuadroTexto"/>
            <p:cNvSpPr/>
            <p:nvPr/>
          </p:nvSpPr>
          <p:spPr>
            <a:xfrm>
              <a:off x="6228720" y="465264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cidos graso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6444720" y="53006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ic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22 Flecha abajo"/>
            <p:cNvSpPr/>
            <p:nvPr/>
          </p:nvSpPr>
          <p:spPr>
            <a:xfrm>
              <a:off x="6804000" y="3887640"/>
              <a:ext cx="252360" cy="804600"/>
            </a:xfrm>
            <a:prstGeom prst="downArrow">
              <a:avLst>
                <a:gd name="adj1" fmla="val 50000"/>
                <a:gd name="adj2" fmla="val 4999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23 Flecha derecha"/>
            <p:cNvSpPr/>
            <p:nvPr/>
          </p:nvSpPr>
          <p:spPr>
            <a:xfrm>
              <a:off x="5796000" y="4130640"/>
              <a:ext cx="649080" cy="187200"/>
            </a:xfrm>
            <a:prstGeom prst="rightArrow">
              <a:avLst>
                <a:gd name="adj1" fmla="val 50000"/>
                <a:gd name="adj2" fmla="val 500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25 Conector recto de flecha"/>
            <p:cNvCxnSpPr/>
            <p:nvPr/>
          </p:nvCxnSpPr>
          <p:spPr>
            <a:xfrm flipH="1">
              <a:off x="4644360" y="5084280"/>
              <a:ext cx="172764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33" name="26 CuadroTexto"/>
            <p:cNvSpPr/>
            <p:nvPr/>
          </p:nvSpPr>
          <p:spPr>
            <a:xfrm>
              <a:off x="2052000" y="5285160"/>
              <a:ext cx="20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ta oxidación en hígado y 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27 CuadroTexto"/>
            <p:cNvSpPr/>
            <p:nvPr/>
          </p:nvSpPr>
          <p:spPr>
            <a:xfrm>
              <a:off x="5508360" y="588528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ígado: 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28 CuadroTexto"/>
            <p:cNvSpPr/>
            <p:nvPr/>
          </p:nvSpPr>
          <p:spPr>
            <a:xfrm>
              <a:off x="6516720" y="638100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30 Conector recto de flecha"/>
            <p:cNvCxnSpPr/>
            <p:nvPr/>
          </p:nvCxnSpPr>
          <p:spPr>
            <a:xfrm>
              <a:off x="6940440" y="570024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7" name="31 Conector recto de flecha"/>
            <p:cNvCxnSpPr/>
            <p:nvPr/>
          </p:nvCxnSpPr>
          <p:spPr>
            <a:xfrm>
              <a:off x="6870600" y="627336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8" name="32 Conector recto de flecha"/>
            <p:cNvCxnSpPr/>
            <p:nvPr/>
          </p:nvCxnSpPr>
          <p:spPr>
            <a:xfrm flipV="1">
              <a:off x="6445080" y="6379560"/>
              <a:ext cx="1080" cy="361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39" name="37 CuadroTexto"/>
            <p:cNvSpPr/>
            <p:nvPr/>
          </p:nvSpPr>
          <p:spPr>
            <a:xfrm>
              <a:off x="6732720" y="494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1 Multiplicar"/>
            <p:cNvSpPr/>
            <p:nvPr/>
          </p:nvSpPr>
          <p:spPr>
            <a:xfrm>
              <a:off x="5796000" y="390204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7" h="655669">
                  <a:moveTo>
                    <a:pt x="87502" y="202214"/>
                  </a:moveTo>
                  <a:lnTo>
                    <a:pt x="189308" y="112737"/>
                  </a:lnTo>
                  <a:lnTo>
                    <a:pt x="288134" y="225179"/>
                  </a:lnTo>
                  <a:lnTo>
                    <a:pt x="386959" y="112737"/>
                  </a:lnTo>
                  <a:lnTo>
                    <a:pt x="488765" y="202214"/>
                  </a:lnTo>
                  <a:lnTo>
                    <a:pt x="378357" y="327835"/>
                  </a:lnTo>
                  <a:lnTo>
                    <a:pt x="488765" y="453455"/>
                  </a:lnTo>
                  <a:lnTo>
                    <a:pt x="386959" y="542932"/>
                  </a:lnTo>
                  <a:lnTo>
                    <a:pt x="288134" y="430490"/>
                  </a:lnTo>
                  <a:lnTo>
                    <a:pt x="189308" y="542932"/>
                  </a:lnTo>
                  <a:lnTo>
                    <a:pt x="87502" y="453455"/>
                  </a:lnTo>
                  <a:lnTo>
                    <a:pt x="197910" y="327835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2 Rectángulo redondeado"/>
            <p:cNvSpPr/>
            <p:nvPr/>
          </p:nvSpPr>
          <p:spPr>
            <a:xfrm>
              <a:off x="324000" y="3902040"/>
              <a:ext cx="2016000" cy="93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33 Multiplicar"/>
            <p:cNvSpPr/>
            <p:nvPr/>
          </p:nvSpPr>
          <p:spPr>
            <a:xfrm>
              <a:off x="6653520" y="396216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7" h="655669">
                  <a:moveTo>
                    <a:pt x="87502" y="202214"/>
                  </a:moveTo>
                  <a:lnTo>
                    <a:pt x="189308" y="112737"/>
                  </a:lnTo>
                  <a:lnTo>
                    <a:pt x="288134" y="225179"/>
                  </a:lnTo>
                  <a:lnTo>
                    <a:pt x="386959" y="112737"/>
                  </a:lnTo>
                  <a:lnTo>
                    <a:pt x="488765" y="202214"/>
                  </a:lnTo>
                  <a:lnTo>
                    <a:pt x="378357" y="327835"/>
                  </a:lnTo>
                  <a:lnTo>
                    <a:pt x="488765" y="453455"/>
                  </a:lnTo>
                  <a:lnTo>
                    <a:pt x="386959" y="542932"/>
                  </a:lnTo>
                  <a:lnTo>
                    <a:pt x="288134" y="430490"/>
                  </a:lnTo>
                  <a:lnTo>
                    <a:pt x="189308" y="542932"/>
                  </a:lnTo>
                  <a:lnTo>
                    <a:pt x="87502" y="453455"/>
                  </a:lnTo>
                  <a:lnTo>
                    <a:pt x="197910" y="327835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35 Multiplicar"/>
            <p:cNvSpPr/>
            <p:nvPr/>
          </p:nvSpPr>
          <p:spPr>
            <a:xfrm>
              <a:off x="5219640" y="501480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8" h="655668">
                  <a:moveTo>
                    <a:pt x="87502" y="202214"/>
                  </a:moveTo>
                  <a:lnTo>
                    <a:pt x="189308" y="112736"/>
                  </a:lnTo>
                  <a:lnTo>
                    <a:pt x="288134" y="225179"/>
                  </a:lnTo>
                  <a:lnTo>
                    <a:pt x="386960" y="112736"/>
                  </a:lnTo>
                  <a:lnTo>
                    <a:pt x="488766" y="202214"/>
                  </a:lnTo>
                  <a:lnTo>
                    <a:pt x="378358" y="327834"/>
                  </a:lnTo>
                  <a:lnTo>
                    <a:pt x="488766" y="453454"/>
                  </a:lnTo>
                  <a:lnTo>
                    <a:pt x="386960" y="542932"/>
                  </a:lnTo>
                  <a:lnTo>
                    <a:pt x="288134" y="430489"/>
                  </a:lnTo>
                  <a:lnTo>
                    <a:pt x="189308" y="542932"/>
                  </a:lnTo>
                  <a:lnTo>
                    <a:pt x="87502" y="453454"/>
                  </a:lnTo>
                  <a:lnTo>
                    <a:pt x="197910" y="327834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36 Multiplicar"/>
            <p:cNvSpPr/>
            <p:nvPr/>
          </p:nvSpPr>
          <p:spPr>
            <a:xfrm>
              <a:off x="6642360" y="548496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8" h="655668">
                  <a:moveTo>
                    <a:pt x="87502" y="202214"/>
                  </a:moveTo>
                  <a:lnTo>
                    <a:pt x="189308" y="112736"/>
                  </a:lnTo>
                  <a:lnTo>
                    <a:pt x="288134" y="225179"/>
                  </a:lnTo>
                  <a:lnTo>
                    <a:pt x="386960" y="112736"/>
                  </a:lnTo>
                  <a:lnTo>
                    <a:pt x="488766" y="202214"/>
                  </a:lnTo>
                  <a:lnTo>
                    <a:pt x="378358" y="327834"/>
                  </a:lnTo>
                  <a:lnTo>
                    <a:pt x="488766" y="453454"/>
                  </a:lnTo>
                  <a:lnTo>
                    <a:pt x="386960" y="542932"/>
                  </a:lnTo>
                  <a:lnTo>
                    <a:pt x="288134" y="430489"/>
                  </a:lnTo>
                  <a:lnTo>
                    <a:pt x="189308" y="542932"/>
                  </a:lnTo>
                  <a:lnTo>
                    <a:pt x="87502" y="453454"/>
                  </a:lnTo>
                  <a:lnTo>
                    <a:pt x="197910" y="327834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3 Rectángulo"/>
            <p:cNvSpPr/>
            <p:nvPr/>
          </p:nvSpPr>
          <p:spPr>
            <a:xfrm>
              <a:off x="6228000" y="3439800"/>
              <a:ext cx="1441440" cy="447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rcRect l="0" t="35415" r="0" b="0"/>
          <a:stretch/>
        </p:blipFill>
        <p:spPr>
          <a:xfrm rot="5400000">
            <a:off x="-829080" y="2275920"/>
            <a:ext cx="6264360" cy="223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059280" y="404640"/>
            <a:ext cx="172692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564000" y="1844640"/>
            <a:ext cx="287964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L-Glicerol 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492360" y="3500280"/>
            <a:ext cx="295272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ihidroxiaceto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419640" y="5300640"/>
            <a:ext cx="338436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-Gliceraldehído  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84360" y="6021360"/>
            <a:ext cx="2916000" cy="64260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cólisis ó 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684360" y="836640"/>
            <a:ext cx="1512720" cy="1008000"/>
          </a:xfrm>
          <a:prstGeom prst="ellipse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lice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250920" y="2637000"/>
            <a:ext cx="2016000" cy="86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derol 3-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684360" y="4149720"/>
            <a:ext cx="151272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riosa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so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2268360" y="5661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572000" y="333360"/>
            <a:ext cx="4537080" cy="52056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 DEL 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786040" y="928800"/>
            <a:ext cx="287964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ígado, riñón, intestino, glándula mamaria lac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258920" y="404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44360" y="0"/>
            <a:ext cx="8604360" cy="12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TIVACION DE LOS ACIDOS GRASOS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372360" y="3584520"/>
            <a:ext cx="1800000" cy="36828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b050"/>
                </a:solidFill>
                <a:latin typeface="Arial"/>
                <a:ea typeface="Arial"/>
              </a:rPr>
              <a:t>Piro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900000" y="2827440"/>
            <a:ext cx="7417080" cy="398880"/>
            <a:chOff x="900000" y="2827440"/>
            <a:chExt cx="7417080" cy="398880"/>
          </a:xfrm>
        </p:grpSpPr>
        <p:sp>
          <p:nvSpPr>
            <p:cNvPr id="162" name="Text Box 4"/>
            <p:cNvSpPr/>
            <p:nvPr/>
          </p:nvSpPr>
          <p:spPr>
            <a:xfrm>
              <a:off x="900000" y="2827440"/>
              <a:ext cx="74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ACIDO GRASO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                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ACIL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4500720" y="300024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6"/>
          <p:cNvSpPr/>
          <p:nvPr/>
        </p:nvSpPr>
        <p:spPr>
          <a:xfrm>
            <a:off x="3908520" y="2319480"/>
            <a:ext cx="304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50"/>
                </a:solidFill>
                <a:latin typeface="Arial"/>
                <a:ea typeface="Arial"/>
              </a:rPr>
              <a:t>AcilCoA sintetasa 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50"/>
                </a:solidFill>
                <a:latin typeface="Arial"/>
                <a:ea typeface="Arial"/>
              </a:rPr>
              <a:t>Ti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143240" y="3214800"/>
            <a:ext cx="24289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TP       AMP  +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4643280" y="3000240"/>
            <a:ext cx="785880" cy="285840"/>
          </a:xfrm>
          <a:custGeom>
            <a:avLst/>
            <a:gdLst>
              <a:gd name="textAreaLeft" fmla="*/ 164160 w 785880"/>
              <a:gd name="textAreaRight" fmla="*/ 578880 w 7858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0" hR="21600" stAng="10800000" swAng="5400000"/>
                <a:lnTo>
                  <a:pt x="11391" y="0"/>
                </a:lnTo>
                <a:arcTo wR="9030" hR="21600" stAng="-5400000" swAng="2986616"/>
                <a:lnTo>
                  <a:pt x="21084" y="14400"/>
                </a:lnTo>
                <a:lnTo>
                  <a:pt x="19240" y="21600"/>
                </a:lnTo>
                <a:lnTo>
                  <a:pt x="16363" y="14400"/>
                </a:lnTo>
                <a:lnTo>
                  <a:pt x="17543" y="14400"/>
                </a:lnTo>
                <a:arcTo wR="9030" hR="21600" stAng="-2413384" swAng="-2797298"/>
                <a:lnTo>
                  <a:pt x="10210" y="185"/>
                </a:lnTo>
                <a:arcTo wR="9030" hR="21600" stAng="-5589317" swAng="-5210683"/>
                <a:close/>
              </a:path>
              <a:path fill="darkenLess" w="21600" h="21600">
                <a:moveTo>
                  <a:pt x="0" y="21600"/>
                </a:moveTo>
                <a:arcTo wR="9030" hR="21600" stAng="10800000" swAng="5400000"/>
                <a:lnTo>
                  <a:pt x="9030" y="0"/>
                </a:lnTo>
                <a:arcTo wR="9030" hR="21600" stAng="-5400000" swAng="189317"/>
                <a:lnTo>
                  <a:pt x="10210" y="185"/>
                </a:lnTo>
                <a:arcTo wR="9030" hR="21600" stAng="-5589317" swAng="-52106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79280" y="4572360"/>
            <a:ext cx="8820360" cy="1110600"/>
            <a:chOff x="179280" y="4572360"/>
            <a:chExt cx="8820360" cy="1110600"/>
          </a:xfrm>
        </p:grpSpPr>
        <p:sp>
          <p:nvSpPr>
            <p:cNvPr id="168" name="Text Box 10"/>
            <p:cNvSpPr/>
            <p:nvPr/>
          </p:nvSpPr>
          <p:spPr>
            <a:xfrm>
              <a:off x="179280" y="4724280"/>
              <a:ext cx="88203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O                                                                 O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–C-O</a:t>
              </a:r>
              <a:r>
                <a:rPr b="1" lang="es-ES_tradnl" sz="2000" spc="-1" strike="noStrike" baseline="30000">
                  <a:solidFill>
                    <a:srgbClr val="0000cc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T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–C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-CoA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MP + P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"/>
            <p:cNvSpPr/>
            <p:nvPr/>
          </p:nvSpPr>
          <p:spPr>
            <a:xfrm rot="19201800">
              <a:off x="109368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4071960" y="51436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 rot="19201800">
              <a:off x="5808600" y="4698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15 CuadroTexto"/>
          <p:cNvSpPr/>
          <p:nvPr/>
        </p:nvSpPr>
        <p:spPr>
          <a:xfrm>
            <a:off x="410040" y="128592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iosíntesis de Acil-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6 CuadroTexto"/>
          <p:cNvSpPr/>
          <p:nvPr/>
        </p:nvSpPr>
        <p:spPr>
          <a:xfrm>
            <a:off x="6725160" y="2854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7 CuadroTexto"/>
          <p:cNvSpPr/>
          <p:nvPr/>
        </p:nvSpPr>
        <p:spPr>
          <a:xfrm>
            <a:off x="5081760" y="50688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71920" y="4500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3 Conector recto de flecha"/>
          <p:cNvCxnSpPr/>
          <p:nvPr/>
        </p:nvCxnSpPr>
        <p:spPr>
          <a:xfrm>
            <a:off x="6097320" y="3500280"/>
            <a:ext cx="618120" cy="650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7" name="4 CuadroTexto"/>
          <p:cNvSpPr/>
          <p:nvPr/>
        </p:nvSpPr>
        <p:spPr>
          <a:xfrm>
            <a:off x="6770520" y="407664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2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INGRESO DE LOS ACIDOS GRASOS ACTIVADOS </a:t>
            </a: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A LA MITOCOND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ethel\Documents\figuras feduchi\Cap. 14 Metabolismo de los lípidos\cap14-7.jpg"/>
          <p:cNvPicPr/>
          <p:nvPr/>
        </p:nvPicPr>
        <p:blipFill>
          <a:blip r:embed="rId1"/>
          <a:stretch/>
        </p:blipFill>
        <p:spPr>
          <a:xfrm>
            <a:off x="108000" y="1413000"/>
            <a:ext cx="88646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EGRADACION DEL AC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curre en matriz mitocond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proceso se denomina: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del ácido gra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oxidación comienza desde el C 1 y continúa hasta el C1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se repite liberando en cada vuelta unidades de Acetil-CoA (2 C por vuel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urante la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forman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léculas de FAD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y N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 la última vuelta se forma Butiril-CoA liberándose en la oxidación 2 moléculas de Acetil-C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ethel</cp:lastModifiedBy>
  <dcterms:modified xsi:type="dcterms:W3CDTF">2017-09-29T13:24:00Z</dcterms:modified>
  <cp:revision>128</cp:revision>
  <dc:subject/>
  <dc:title>Diapositiva 1</dc:title>
</cp:coreProperties>
</file>